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CC8-4712-4C4F-9F82-6ED9E683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A00-CCB8-4877-8E25-945D28B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0BD-87BC-40FD-B2C9-C467D819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CC6-1860-40F9-B35D-95E111B3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BA22-8CC1-46AE-A1F9-9311E6C0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8E19-B693-445D-A0AA-B613E05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41AB-1D62-4843-9B1F-62F807C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11F-95EB-4C75-9861-EE3FAAB2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08F-0132-4B9E-8940-997B8654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A785-DD31-4EC5-8623-92DED3F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EA55-0787-4147-B15F-A27B4242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796-9B67-415E-AE3B-F489936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902C-7C9A-4053-AA07-F6E3B6B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9A8-5834-4047-BDCC-D5FED6B8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CF3C-E7AE-40F9-B0E2-4A2110ED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D45A-AD1E-4529-A9A7-D8EE59C0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212C-10C7-4C15-8336-ACAB18D2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35A0-4A09-4119-97E1-7D3265FB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67D0-B0FE-4258-827A-EC69776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C854-2AD9-4E9B-9DED-761E330E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AB98-847D-40E9-ACE1-6C22FE57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D707-E314-47CD-A5E0-9CFFDCB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597-E3DE-4C8D-B297-5A797DE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7FD9-3E3C-4F2C-8DBA-459401C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D44A6-6FBE-43B6-9418-8A00B10A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9D6BF-9F92-46A0-96E5-9CB8E48F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823B-EE4A-435D-ADBD-8FFED51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995F-C07C-4A41-9C72-72D4A190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6BF9-8197-4661-A9A0-C75D2EF9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2C38-7DDE-4F8F-8496-300BC7F2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A083-082F-4795-A49C-C997BF84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CBAF-7DCD-4E7C-B7CD-D81AFC3B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673D-80B4-4260-96D8-409696D6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C86-7D36-4092-92A1-E94849C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4F98-9E25-42A6-BF76-BDB8F45F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61F7-0588-4BC0-92D9-D27481A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11D2-04E5-498C-BC43-43411AA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33A6-F463-4B9C-884C-587EFE6C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61BB-31C1-4371-9806-201F144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8F5D-8431-40D6-A45F-1ADE806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C16B-101A-41AF-8C46-5B97F673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4C06-460C-467B-AC9B-183D0730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04ED-A9F4-41BC-A588-0C866D0B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4ACA-88FD-445A-9094-D3784EF1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463-99AD-4B65-8E75-8636C1B4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293E-D5E8-4FA6-8B93-41D3EBF7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22DE-AD7C-4D8E-A125-562716A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26916-5722-4D97-AD8A-CB0DB6B9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C530-EB31-402A-B963-0913ECA3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3A1B-6941-4B70-8431-1B805F82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CDEA-89A8-40F9-9265-C1E7883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E273-2967-4574-8FC3-DBAD0F5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13B3-B32A-4023-86B3-018BEA09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C8E9B-91C6-452A-BB0F-ADD7919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CD2B6-6F7D-41C4-9F30-AB8D2C42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D5E-6A08-4B9F-9313-3ECDC92D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12A8-FE31-43EA-9C74-165CC823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8E7-502F-4698-888C-B3C3806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C72-8D95-4819-913B-2703214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323-FADE-435B-9374-B8FDF57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3914-9021-4CC8-B058-BBAFA1581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193-7BE6-414B-BA8D-50C747B983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CBF-AB28-41E7-B0C3-BBD8DBEF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886-0C6F-4B7D-B25A-E94F07D1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FD18-1533-411E-86D3-FB9C0DC8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commons/c/c0/Greek_vase_with_muse_and_kithara_on_mount_helikon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e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6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Mar. 21 &amp; 22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uided Reading  Ch. 9 Sect. 1 (front &amp;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rowth of Rome Map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0" y="1143000"/>
            <a:ext cx="914400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Focus 3-21 &amp; 22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 Italy similar to Greece?  (Name at least tw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italy"/>
          <p:cNvPicPr/>
          <p:nvPr/>
        </p:nvPicPr>
        <p:blipFill>
          <a:blip r:embed="rId1"/>
          <a:srcRect l="0" t="0" r="62214" b="0"/>
          <a:stretch/>
        </p:blipFill>
        <p:spPr>
          <a:xfrm>
            <a:off x="0" y="1981080"/>
            <a:ext cx="4721400" cy="487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Large Greece Map"/>
          <p:cNvPicPr/>
          <p:nvPr/>
        </p:nvPicPr>
        <p:blipFill>
          <a:blip r:embed="rId2"/>
          <a:stretch/>
        </p:blipFill>
        <p:spPr>
          <a:xfrm>
            <a:off x="4727520" y="2028960"/>
            <a:ext cx="4416480" cy="4829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2"/>
          <p:cNvSpPr/>
          <p:nvPr/>
        </p:nvSpPr>
        <p:spPr>
          <a:xfrm>
            <a:off x="3657600" y="2057400"/>
            <a:ext cx="990720" cy="609480"/>
          </a:xfrm>
          <a:prstGeom prst="rect">
            <a:avLst/>
          </a:prstGeom>
          <a:solidFill>
            <a:srgbClr val="a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soldiers_right"/>
          <p:cNvPicPr/>
          <p:nvPr/>
        </p:nvPicPr>
        <p:blipFill>
          <a:blip r:embed="rId3"/>
          <a:srcRect l="9421" t="0" r="52943" b="0"/>
          <a:stretch/>
        </p:blipFill>
        <p:spPr>
          <a:xfrm>
            <a:off x="4343400" y="1981080"/>
            <a:ext cx="6094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191120" y="1295280"/>
            <a:ext cx="46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Sparta did not produce much art or philosophy or any written work, but its people were admired for keeping alive the Gree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52280" y="350532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s was famous for its literature, poetry, drama, theater, government, ( our own government is modeled after it ) and producing the world’s greatest thinkers. It is clearly the shining star of all the Greek   city-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spartaremains"/>
          <p:cNvPicPr/>
          <p:nvPr/>
        </p:nvPicPr>
        <p:blipFill>
          <a:blip r:embed="rId2"/>
          <a:stretch/>
        </p:blipFill>
        <p:spPr>
          <a:xfrm>
            <a:off x="304920" y="91440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parthenon"/>
          <p:cNvPicPr/>
          <p:nvPr/>
        </p:nvPicPr>
        <p:blipFill>
          <a:blip r:embed="rId3"/>
          <a:stretch/>
        </p:blipFill>
        <p:spPr>
          <a:xfrm>
            <a:off x="4343400" y="3505320"/>
            <a:ext cx="4533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Roman Empire Map"/>
          <p:cNvPicPr/>
          <p:nvPr/>
        </p:nvPicPr>
        <p:blipFill>
          <a:blip r:embed="rId1"/>
          <a:srcRect l="0" t="-2211" r="0" b="-993"/>
          <a:stretch/>
        </p:blipFill>
        <p:spPr>
          <a:xfrm>
            <a:off x="0" y="-1522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Roman Empire Map"/>
          <p:cNvPicPr/>
          <p:nvPr/>
        </p:nvPicPr>
        <p:blipFill>
          <a:blip r:embed="rId1"/>
          <a:srcRect l="0" t="18487" r="0" b="5976"/>
          <a:stretch/>
        </p:blipFill>
        <p:spPr>
          <a:xfrm>
            <a:off x="228600" y="0"/>
            <a:ext cx="8534520" cy="3352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greece2"/>
          <p:cNvPicPr/>
          <p:nvPr/>
        </p:nvPicPr>
        <p:blipFill>
          <a:blip r:embed="rId2"/>
          <a:srcRect l="0" t="31798" r="10833" b="8374"/>
          <a:stretch/>
        </p:blipFill>
        <p:spPr>
          <a:xfrm>
            <a:off x="380880" y="4133880"/>
            <a:ext cx="8153640" cy="272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2514600" y="3124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 A.D. 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3352680"/>
            <a:ext cx="962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ruled first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Which empire expanded farther ea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controlled the largest area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Which empire expanded farther we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9907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838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847800" y="5105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1981080" y="5105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: Tim Ram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98108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ens &amp; Sp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athena_poseidon"/>
          <p:cNvPicPr/>
          <p:nvPr/>
        </p:nvPicPr>
        <p:blipFill>
          <a:blip r:embed="rId1"/>
          <a:stretch/>
        </p:blipFill>
        <p:spPr>
          <a:xfrm>
            <a:off x="609480" y="1676520"/>
            <a:ext cx="4381560" cy="2895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rtemis"/>
          <p:cNvPicPr/>
          <p:nvPr/>
        </p:nvPicPr>
        <p:blipFill>
          <a:blip r:embed="rId2"/>
          <a:stretch/>
        </p:blipFill>
        <p:spPr>
          <a:xfrm>
            <a:off x="5410080" y="1447920"/>
            <a:ext cx="2743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990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thensmap"/>
          <p:cNvPicPr/>
          <p:nvPr/>
        </p:nvPicPr>
        <p:blipFill>
          <a:blip r:embed="rId1"/>
          <a:srcRect l="2943" t="0" r="0" b="6973"/>
          <a:stretch/>
        </p:blipFill>
        <p:spPr>
          <a:xfrm>
            <a:off x="2209680" y="358128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57200" y="457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thens and Spar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 Contrast in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04920" y="20574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lthough these city states were only 300 miles apart, their cultures were vastly different in many ways. Three of those are the treatment of children, women in society, and cus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Spartan soldier"/>
          <p:cNvPicPr/>
          <p:nvPr/>
        </p:nvPicPr>
        <p:blipFill>
          <a:blip r:embed="rId2"/>
          <a:stretch/>
        </p:blipFill>
        <p:spPr>
          <a:xfrm>
            <a:off x="7310520" y="1224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athenastatue"/>
          <p:cNvPicPr/>
          <p:nvPr/>
        </p:nvPicPr>
        <p:blipFill>
          <a:blip r:embed="rId3"/>
          <a:stretch/>
        </p:blipFill>
        <p:spPr>
          <a:xfrm>
            <a:off x="434880" y="139680"/>
            <a:ext cx="15242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2860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600" y="380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0" y="1143000"/>
            <a:ext cx="4267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Boys were taught by their mothers until age seven and then sent to a day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Other than reading, writing, and math, they were educated in the arts, government, and d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also learned how to play a ly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At eighteen, they entered military school for two addition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were taught how to be a good citizen of Athens and have good mo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99072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Ath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3" descr="plato"/>
          <p:cNvPicPr/>
          <p:nvPr/>
        </p:nvPicPr>
        <p:blipFill>
          <a:blip r:embed="rId2"/>
          <a:stretch/>
        </p:blipFill>
        <p:spPr>
          <a:xfrm>
            <a:off x="304920" y="990720"/>
            <a:ext cx="198756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socrates"/>
          <p:cNvPicPr/>
          <p:nvPr/>
        </p:nvPicPr>
        <p:blipFill>
          <a:blip r:embed="rId3"/>
          <a:stretch/>
        </p:blipFill>
        <p:spPr>
          <a:xfrm>
            <a:off x="2438280" y="990720"/>
            <a:ext cx="1746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152280" y="335268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Boys in Athens had to learn about Plato (above) and Socrates 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Image:Greek vase with muse and kithara on mount helikon.jpg">
            <a:hlinkClick r:id="rId4"/>
          </p:cNvPr>
          <p:cNvPicPr/>
          <p:nvPr/>
        </p:nvPicPr>
        <p:blipFill>
          <a:blip r:embed="rId5"/>
          <a:srcRect l="22902" t="4169" r="24746" b="6251"/>
          <a:stretch/>
        </p:blipFill>
        <p:spPr>
          <a:xfrm>
            <a:off x="2666880" y="3276720"/>
            <a:ext cx="14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2133720" y="-507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04920" y="365040"/>
            <a:ext cx="426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ce a son was seven years old, he was taken from his mother to go to military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military school, they trained to be a disciplined war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ool courses were very painful and difficult. They were taught the very basics of reading and writing, but warfare was the only thing that mattered to the Spart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weren’t fed well and were taught to steal –but were punished if they were cau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rtans thought that any kind of luxury made a person spoiled, so they did not believe in entertainment or comfort.  Their food was bland and their clothes were 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had to live in barracks away from their family. They lived apart until the age of six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spartaweapons"/>
          <p:cNvPicPr/>
          <p:nvPr/>
        </p:nvPicPr>
        <p:blipFill>
          <a:blip r:embed="rId2"/>
          <a:srcRect l="6668" t="0" r="0" b="0"/>
          <a:stretch/>
        </p:blipFill>
        <p:spPr>
          <a:xfrm>
            <a:off x="4724280" y="182880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Women in Athens and Sp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women"/>
          <p:cNvPicPr/>
          <p:nvPr/>
        </p:nvPicPr>
        <p:blipFill>
          <a:blip r:embed="rId2"/>
          <a:stretch/>
        </p:blipFill>
        <p:spPr>
          <a:xfrm>
            <a:off x="3429000" y="2133720"/>
            <a:ext cx="2324160" cy="3190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380880" y="2057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Women were only a small step abov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200400" y="990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 were taught wrestling, gymnastics and combat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477120" y="17524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he passed the test for strength, she was allowed to be a citiz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3520" y="32004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were not citizens and were under their husband’s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04920" y="5638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 &amp; 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s were arranged by the father of the br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019920" y="38862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ir husbands didn’t live at home, the women enjoyed a great deal of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152280" y="838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own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410080" y="56707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wear jewelry, make-up, or colored cl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2438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Weird Cus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380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partan babies were washed in w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676520" y="19810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Spartan infants were not strong enough then they were thrown over a cli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335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artan boys marched without shoes to make them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1523880" y="5105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 Sparta when a woman was married, her head was shaved and was made to wear men’s clothing until the ceremony was o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5486400" y="34290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Parents in Athens considered their children “youths” until the age of thi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1:58Z</dcterms:created>
  <dc:creator>Selena Ramsey</dc:creator>
  <dc:description/>
  <dc:language>en-US</dc:language>
  <cp:lastModifiedBy>poweruser</cp:lastModifiedBy>
  <dcterms:modified xsi:type="dcterms:W3CDTF">2011-03-22T12:08:16Z</dcterms:modified>
  <cp:revision>19</cp:revision>
  <dc:subject/>
  <dc:title>Slide 1</dc:title>
</cp:coreProperties>
</file>